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D678-A4D8-4D63-BCAC-8184AE08E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281A-FC4A-4EAA-AD0C-0374BAC3C60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ECAE-5757-4745-B901-4B9C25CE39E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Hollis stay with Josi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BD1D-D8A3-4025-96EB-8A087C24503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CDA0-27C7-4913-A3E7-A33B437554A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Hollis stay with Josi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A7B8-64EA-4E15-B7FD-BFB8E120B8F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D620-418E-424B-878A-8AA3AAF90B2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CEC3-3DE1-4E0E-84CA-EAF3F5AFE45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8F51-DD80-483B-9E99-2886DB66566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: (two settings: Long Island - her hometown; Summer house in Delaware River and Branches in Upstate New York: where Steven lived; some place by the water – Josi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house; Characters: Hollis, Mustard Women, Steven, The Old Man, Josie) ; Problem: Hollis doe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have a family (she was abandoned on p. 48); longs to belong; some issue with Steven and how she messed everything up (p. 29); Sh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starting to love Josie and to feel important in life, but Josie forgets things (Ch. 3, p. 31); The Old Man sees her strengths also as an artist.  Authors craft: reveals character through two formats (Some chapters through her journal/thoughts; and others through her interactions with others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4004-5D6F-4FBA-A094-30ABA9FB13B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7097-041D-4A86-B381-3F9526A7588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30A-A373-4EE0-8426-18D15375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E2A-2A85-4D1F-A44C-2E0315B8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706-7AE6-4567-8D9A-8276FBA4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559-CB82-441F-8068-9819D0A3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4FCC-7B6A-40C6-A9E4-7267FFDE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4A90-5FBE-4F75-98CB-32939FA0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6DBF-89CF-4EF9-8298-D9FD8B79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ACE4-8746-4DDC-AAEE-16FEF966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A2D9-5716-4B9C-9155-8880842A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3D46-E64C-4D32-A263-15E8B46A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9F99-58C7-4998-9AF2-785F2871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320-1DC8-4883-83DB-7DEA15C6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2924-8F0C-4FD5-AEBA-55DC0450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DF7D-DB0A-4F91-AE5D-F6B6DB4B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1137-9549-4822-8E6E-F27AF085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AEB3-8313-4463-A129-45744291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4828-D995-416C-BC65-2F0DAEF2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D36-E2A3-4AEA-9E0E-3B59B712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0DF-FDCA-48D8-B7EF-FFFFD45C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EC8-CFCE-436C-91F4-76434DDD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66C-BDF4-48D0-8C67-0B0DA0BD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6EBC-4D93-44DA-B81A-4AD575F4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EBF-210B-4C32-9377-1219DFE6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C01-E59B-4997-BD9A-F383590D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B950-DEDD-42C5-A09F-4C3E79A79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B77F-1459-44FD-8071-AAEE0E2646B9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hyperlink" Target="http://www.litsite.org/index.cfm?section=Teaching%20and%20Learning&amp;page=Reading%20Workbooks&amp;Cat=Middle%20School&amp;ContentId=1015&amp;viewpost=2" TargetMode="External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Supporting Comprehension of Narrative Texts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320000"/>
                </a:solidFill>
                <a:latin typeface="Arial"/>
              </a:rPr>
              <a:t>Pictures of Hollis Woods</a:t>
            </a: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6019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- 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nswering Questions: </a:t>
            </a:r>
            <a:br>
              <a:rPr sz="44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Question-Answer Relationships (QAR)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y recognizing the type of question being asked, students are better able to find the answ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, they don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 spend all their time looking for answers that are not 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ight there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y learn how to generate their own high-level (or low-level) ques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ve between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 Questi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pecific details) and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ck Questi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ig picture concepts) to guide their own think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Levels of Ques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ight There: LITER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nk and Search: INFERENTIAL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read between the lines and think how info fit together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uthor and You: INFERENTIA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think about author clues and formulate own opinion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On My Own: EVALUATIV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what do you think?)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estion-Answer Relationships (QAR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Albert was afraid that Susan would beat him in the tennis match. The night before the match, Albert broke both of Susan</a:t>
            </a:r>
            <a:r>
              <a:rPr b="0" i="1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s racquet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IGHT THERE: When did Albert break both of Susan</a:t>
            </a:r>
            <a:r>
              <a:rPr b="0" lang="ja-JP" sz="24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 racque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NK &amp; SEARCH: Why did Albert break both of Susan</a:t>
            </a:r>
            <a:r>
              <a:rPr b="0" lang="ja-JP" sz="24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 racque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N YOUR OWN: Why was Albert afraid that Susan would beat him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UTHOR &amp; YOU: What does the author seem to imply about Albert in this passag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"/>
          <p:cNvSpPr/>
          <p:nvPr/>
        </p:nvSpPr>
        <p:spPr>
          <a:xfrm>
            <a:off x="888480" y="6062760"/>
            <a:ext cx="125532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LITERA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 rot="16200000">
            <a:off x="-422280" y="3942720"/>
            <a:ext cx="18633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NFERENTIA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609480" y="1992240"/>
            <a:ext cx="16002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00"/>
                </a:solidFill>
                <a:latin typeface="Arial"/>
              </a:rPr>
              <a:t>EVALUATIVE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alking About Book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(During &amp; After Reading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26" name="Picture 4" descr="Screen Shot 2014-11-13 at 9.29.15 AM.png"/>
          <p:cNvPicPr/>
          <p:nvPr/>
        </p:nvPicPr>
        <p:blipFill>
          <a:blip r:embed="rId1"/>
          <a:stretch/>
        </p:blipFill>
        <p:spPr>
          <a:xfrm>
            <a:off x="457200" y="2209680"/>
            <a:ext cx="4290840" cy="2667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creen Shot 2014-11-13 at 9.29.54 AM.png"/>
          <p:cNvPicPr/>
          <p:nvPr/>
        </p:nvPicPr>
        <p:blipFill>
          <a:blip r:embed="rId2"/>
          <a:stretch/>
        </p:blipFill>
        <p:spPr>
          <a:xfrm>
            <a:off x="4267080" y="3276720"/>
            <a:ext cx="4200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Questioning the Author (QtA)</a:t>
            </a:r>
            <a:br>
              <a:rPr sz="4000"/>
            </a:b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Often teacher-led discussions</a:t>
            </a:r>
            <a:endParaRPr b="0" lang="en-US" sz="28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9807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amine author’s background, perspective, &amp; craf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egin with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road, open-ended ques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’s going on here? What is the author saying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y do you think the author wrote this part here</a:t>
            </a:r>
            <a:r>
              <a:rPr b="0" lang="is-IS" sz="2000" spc="-1" strike="noStrike">
                <a:solidFill>
                  <a:srgbClr val="330000"/>
                </a:solidFill>
                <a:latin typeface="Arial"/>
              </a:rPr>
              <a:t>…?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Foster connec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330000"/>
                </a:solidFill>
                <a:latin typeface="Arial"/>
              </a:rPr>
              <a:t>How does that connect with your life?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he other tex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larify confusions/support with evidenc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Does that make sense?  Why or why no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ow did you get that idea? What did the author leave ou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nclude/summariz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have you learned from the author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questions would you like to ask the author?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Challenges with Talking About Books in Small Groups?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are some challenge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Some kids do NOT participate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Some kids OVER participate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Some kids don’t work well with others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Some kids are distracted by friends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Some kids lack important knowledge needed to talk about those things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Some kids have different cultural practices and expectations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Discussion Web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 strategy for ensuring one student doesn’t dominate the convers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bines think-pair-share with critical think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individually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 ideas with a partn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air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work toward consensus with another set of partners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har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spokesperson of 4 with whole group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iscussion Web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35" name="Picture 3" descr="Screen Shot 2016-11-21 at 8.57.18 PM.png"/>
          <p:cNvPicPr/>
          <p:nvPr/>
        </p:nvPicPr>
        <p:blipFill>
          <a:blip r:embed="rId1"/>
          <a:stretch/>
        </p:blipFill>
        <p:spPr>
          <a:xfrm>
            <a:off x="12600" y="1828800"/>
            <a:ext cx="9144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iscussion Ideas for Pictures of Hollis Woo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37" name="Picture 3" descr="Screen Shot 2016-11-21 at 9.04.45 PM.png"/>
          <p:cNvPicPr/>
          <p:nvPr/>
        </p:nvPicPr>
        <p:blipFill>
          <a:blip r:embed="rId1"/>
          <a:stretch/>
        </p:blipFill>
        <p:spPr>
          <a:xfrm>
            <a:off x="1143000" y="2133720"/>
            <a:ext cx="69087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oday</a:t>
            </a:r>
            <a:r>
              <a:rPr b="1" lang="ja-JP" sz="4000" spc="-1" strike="noStrike">
                <a:solidFill>
                  <a:srgbClr val="320000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s Learning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Tie Up Loose Ends and Review/Answer Questions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  About Upcoming Assignments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Review HOW to teach reading: explicit strategy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  instruction and gradual release of responsibility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Discuss/apply methods for using questioning to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  promote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iscuss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nversa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Ch. 7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ing the Author (QtA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Discussion Web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Literature Circl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55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2514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. Should Hollis have run away with Josie? </a:t>
            </a:r>
            <a:br>
              <a:rPr sz="3200"/>
            </a:b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2. Which family do you think Hollis should live with? Which family would you choose to live with? Why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iscussion Web Ideas for Pictures of Hollis Woo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bjectives for Next Class 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acilitating Discuss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Consider instructional routines that foster talking and discussion to build understanding AFTER reading </a:t>
            </a:r>
            <a:br>
              <a:rPr sz="3000"/>
            </a:b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pply your ability to build on other people’s contributions while participating in a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iterature circle and a discussion web convers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iscuss challenges of literature circles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consider recommenda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What does a DISCUSSION look like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3" name="Donut 3"/>
          <p:cNvSpPr/>
          <p:nvPr/>
        </p:nvSpPr>
        <p:spPr>
          <a:xfrm>
            <a:off x="685800" y="3048120"/>
            <a:ext cx="3048120" cy="3124080"/>
          </a:xfrm>
          <a:custGeom>
            <a:avLst/>
            <a:gdLst/>
            <a:ahLst/>
            <a:rect l="l" t="t" r="r" b="b"/>
            <a:pathLst>
              <a:path w="3048000" h="3124200">
                <a:moveTo>
                  <a:pt x="0" y="1562100"/>
                </a:moveTo>
                <a:cubicBezTo>
                  <a:pt x="0" y="699376"/>
                  <a:pt x="682318" y="0"/>
                  <a:pt x="1524000" y="0"/>
                </a:cubicBezTo>
                <a:cubicBezTo>
                  <a:pt x="2365682" y="0"/>
                  <a:pt x="3048000" y="699376"/>
                  <a:pt x="3048000" y="1562100"/>
                </a:cubicBezTo>
                <a:cubicBezTo>
                  <a:pt x="3048000" y="2424824"/>
                  <a:pt x="2365682" y="3124200"/>
                  <a:pt x="1524000" y="3124200"/>
                </a:cubicBezTo>
                <a:cubicBezTo>
                  <a:pt x="682318" y="3124200"/>
                  <a:pt x="0" y="2424824"/>
                  <a:pt x="0" y="1562100"/>
                </a:cubicBezTo>
                <a:close/>
                <a:moveTo>
                  <a:pt x="305013" y="1562100"/>
                </a:moveTo>
                <a:cubicBezTo>
                  <a:pt x="305013" y="2256370"/>
                  <a:pt x="850772" y="2819187"/>
                  <a:pt x="1524000" y="2819187"/>
                </a:cubicBezTo>
                <a:cubicBezTo>
                  <a:pt x="2197228" y="2819187"/>
                  <a:pt x="2742987" y="2256370"/>
                  <a:pt x="2742987" y="1562100"/>
                </a:cubicBezTo>
                <a:cubicBezTo>
                  <a:pt x="2742987" y="867830"/>
                  <a:pt x="2197228" y="305013"/>
                  <a:pt x="1524000" y="305013"/>
                </a:cubicBezTo>
                <a:cubicBezTo>
                  <a:pt x="850772" y="305013"/>
                  <a:pt x="305013" y="867830"/>
                  <a:pt x="305013" y="15621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3050640" y="34290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3048120" y="5191200"/>
            <a:ext cx="38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1602720" y="56484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612000" y="45054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1297800" y="3124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49" name="Straight Arrow Connector 10"/>
          <p:cNvCxnSpPr>
            <a:stCxn id="144" idx="2"/>
          </p:cNvCxnSpPr>
          <p:nvPr/>
        </p:nvCxnSpPr>
        <p:spPr>
          <a:xfrm flipH="1">
            <a:off x="3122280" y="3952800"/>
            <a:ext cx="118080" cy="123120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50" name="Straight Arrow Connector 12"/>
          <p:cNvCxnSpPr>
            <a:stCxn id="145" idx="1"/>
          </p:cNvCxnSpPr>
          <p:nvPr/>
        </p:nvCxnSpPr>
        <p:spPr>
          <a:xfrm flipH="1">
            <a:off x="1980720" y="5452920"/>
            <a:ext cx="1067760" cy="42624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51" name="Straight Arrow Connector 14"/>
          <p:cNvCxnSpPr/>
          <p:nvPr/>
        </p:nvCxnSpPr>
        <p:spPr>
          <a:xfrm flipH="1" flipV="1">
            <a:off x="990000" y="4811040"/>
            <a:ext cx="686520" cy="98028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52" name="Straight Arrow Connector 16"/>
          <p:cNvCxnSpPr>
            <a:endCxn id="148" idx="2"/>
          </p:cNvCxnSpPr>
          <p:nvPr/>
        </p:nvCxnSpPr>
        <p:spPr>
          <a:xfrm flipV="1">
            <a:off x="990720" y="3647880"/>
            <a:ext cx="497520" cy="84816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sp>
        <p:nvSpPr>
          <p:cNvPr id="153" name="TextBox 19"/>
          <p:cNvSpPr/>
          <p:nvPr/>
        </p:nvSpPr>
        <p:spPr>
          <a:xfrm>
            <a:off x="685800" y="1847880"/>
            <a:ext cx="28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ll your answ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move o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worse than IRE!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4" name="Donut 20"/>
          <p:cNvSpPr/>
          <p:nvPr/>
        </p:nvSpPr>
        <p:spPr>
          <a:xfrm>
            <a:off x="5181480" y="2971800"/>
            <a:ext cx="3048120" cy="3124080"/>
          </a:xfrm>
          <a:custGeom>
            <a:avLst/>
            <a:gdLst/>
            <a:ahLst/>
            <a:rect l="l" t="t" r="r" b="b"/>
            <a:pathLst>
              <a:path w="3048000" h="3124200">
                <a:moveTo>
                  <a:pt x="0" y="1562100"/>
                </a:moveTo>
                <a:cubicBezTo>
                  <a:pt x="0" y="699376"/>
                  <a:pt x="682318" y="0"/>
                  <a:pt x="1524000" y="0"/>
                </a:cubicBezTo>
                <a:cubicBezTo>
                  <a:pt x="2365682" y="0"/>
                  <a:pt x="3048000" y="699376"/>
                  <a:pt x="3048000" y="1562100"/>
                </a:cubicBezTo>
                <a:cubicBezTo>
                  <a:pt x="3048000" y="2424824"/>
                  <a:pt x="2365682" y="3124200"/>
                  <a:pt x="1524000" y="3124200"/>
                </a:cubicBezTo>
                <a:cubicBezTo>
                  <a:pt x="682318" y="3124200"/>
                  <a:pt x="0" y="2424824"/>
                  <a:pt x="0" y="1562100"/>
                </a:cubicBezTo>
                <a:close/>
                <a:moveTo>
                  <a:pt x="305013" y="1562100"/>
                </a:moveTo>
                <a:cubicBezTo>
                  <a:pt x="305013" y="2256370"/>
                  <a:pt x="850772" y="2819187"/>
                  <a:pt x="1524000" y="2819187"/>
                </a:cubicBezTo>
                <a:cubicBezTo>
                  <a:pt x="2197228" y="2819187"/>
                  <a:pt x="2742987" y="2256370"/>
                  <a:pt x="2742987" y="1562100"/>
                </a:cubicBezTo>
                <a:cubicBezTo>
                  <a:pt x="2742987" y="867830"/>
                  <a:pt x="2197228" y="305013"/>
                  <a:pt x="1524000" y="305013"/>
                </a:cubicBezTo>
                <a:cubicBezTo>
                  <a:pt x="850772" y="305013"/>
                  <a:pt x="305013" y="867830"/>
                  <a:pt x="305013" y="15621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5" name="TextBox 21"/>
          <p:cNvSpPr/>
          <p:nvPr/>
        </p:nvSpPr>
        <p:spPr>
          <a:xfrm>
            <a:off x="7546320" y="33526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6" name="TextBox 22"/>
          <p:cNvSpPr/>
          <p:nvPr/>
        </p:nvSpPr>
        <p:spPr>
          <a:xfrm>
            <a:off x="7543800" y="5114880"/>
            <a:ext cx="38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7" name="TextBox 23"/>
          <p:cNvSpPr/>
          <p:nvPr/>
        </p:nvSpPr>
        <p:spPr>
          <a:xfrm>
            <a:off x="6098400" y="5572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8" name="TextBox 24"/>
          <p:cNvSpPr/>
          <p:nvPr/>
        </p:nvSpPr>
        <p:spPr>
          <a:xfrm>
            <a:off x="5108040" y="4429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9" name="TextBox 25"/>
          <p:cNvSpPr/>
          <p:nvPr/>
        </p:nvSpPr>
        <p:spPr>
          <a:xfrm>
            <a:off x="5793840" y="304812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5486040" y="3876480"/>
            <a:ext cx="2250000" cy="1926360"/>
            <a:chOff x="5486040" y="3876480"/>
            <a:chExt cx="2250000" cy="1926360"/>
          </a:xfrm>
        </p:grpSpPr>
        <p:cxnSp>
          <p:nvCxnSpPr>
            <p:cNvPr id="161" name="Straight Arrow Connector 26"/>
            <p:cNvCxnSpPr>
              <a:stCxn id="155" idx="2"/>
            </p:cNvCxnSpPr>
            <p:nvPr/>
          </p:nvCxnSpPr>
          <p:spPr>
            <a:xfrm flipH="1">
              <a:off x="6552720" y="3876840"/>
              <a:ext cx="1183680" cy="7725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2" name="Straight Arrow Connector 27"/>
            <p:cNvCxnSpPr/>
            <p:nvPr/>
          </p:nvCxnSpPr>
          <p:spPr>
            <a:xfrm flipH="1">
              <a:off x="6476400" y="4572720"/>
              <a:ext cx="153000" cy="123048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3" name="Straight Arrow Connector 28"/>
            <p:cNvCxnSpPr>
              <a:endCxn id="158" idx="3"/>
            </p:cNvCxnSpPr>
            <p:nvPr/>
          </p:nvCxnSpPr>
          <p:spPr>
            <a:xfrm flipH="1" flipV="1">
              <a:off x="5489280" y="4691520"/>
              <a:ext cx="987840" cy="1013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4" name="Straight Arrow Connector 29"/>
            <p:cNvCxnSpPr>
              <a:endCxn id="155" idx="2"/>
            </p:cNvCxnSpPr>
            <p:nvPr/>
          </p:nvCxnSpPr>
          <p:spPr>
            <a:xfrm flipV="1">
              <a:off x="5486040" y="3876480"/>
              <a:ext cx="2250360" cy="8589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grpSp>
        <p:nvGrpSpPr>
          <p:cNvPr id="165" name="Group 49"/>
          <p:cNvGrpSpPr/>
          <p:nvPr/>
        </p:nvGrpSpPr>
        <p:grpSpPr>
          <a:xfrm>
            <a:off x="5562360" y="3571200"/>
            <a:ext cx="1981440" cy="2000880"/>
            <a:chOff x="5562360" y="3571200"/>
            <a:chExt cx="1981440" cy="2000880"/>
          </a:xfrm>
        </p:grpSpPr>
        <p:cxnSp>
          <p:nvCxnSpPr>
            <p:cNvPr id="166" name="Straight Arrow Connector 36"/>
            <p:cNvCxnSpPr>
              <a:stCxn id="156" idx="1"/>
            </p:cNvCxnSpPr>
            <p:nvPr/>
          </p:nvCxnSpPr>
          <p:spPr>
            <a:xfrm flipH="1" flipV="1">
              <a:off x="6400080" y="4115160"/>
              <a:ext cx="1143720" cy="126180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7" name="Straight Arrow Connector 39"/>
            <p:cNvCxnSpPr>
              <a:endCxn id="159" idx="2"/>
            </p:cNvCxnSpPr>
            <p:nvPr/>
          </p:nvCxnSpPr>
          <p:spPr>
            <a:xfrm flipH="1" flipV="1">
              <a:off x="5982480" y="3571200"/>
              <a:ext cx="417960" cy="5439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8" name="Straight Arrow Connector 43"/>
            <p:cNvCxnSpPr>
              <a:endCxn id="157" idx="0"/>
            </p:cNvCxnSpPr>
            <p:nvPr/>
          </p:nvCxnSpPr>
          <p:spPr>
            <a:xfrm>
              <a:off x="6018840" y="3733920"/>
              <a:ext cx="268920" cy="183852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9" name="Straight Arrow Connector 46"/>
            <p:cNvCxnSpPr>
              <a:endCxn id="156" idx="1"/>
            </p:cNvCxnSpPr>
            <p:nvPr/>
          </p:nvCxnSpPr>
          <p:spPr>
            <a:xfrm>
              <a:off x="5562360" y="4724280"/>
              <a:ext cx="1981800" cy="653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cxnSp>
        <p:nvCxnSpPr>
          <p:cNvPr id="170" name="Straight Arrow Connector 53"/>
          <p:cNvCxnSpPr>
            <a:stCxn id="157" idx="0"/>
            <a:endCxn id="155" idx="1"/>
          </p:cNvCxnSpPr>
          <p:nvPr/>
        </p:nvCxnSpPr>
        <p:spPr>
          <a:xfrm flipV="1">
            <a:off x="6288120" y="3614040"/>
            <a:ext cx="1256400" cy="195804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grpSp>
        <p:nvGrpSpPr>
          <p:cNvPr id="171" name="Group 60"/>
          <p:cNvGrpSpPr/>
          <p:nvPr/>
        </p:nvGrpSpPr>
        <p:grpSpPr>
          <a:xfrm>
            <a:off x="5410080" y="3571560"/>
            <a:ext cx="2323800" cy="1542960"/>
            <a:chOff x="5410080" y="3571560"/>
            <a:chExt cx="2323800" cy="1542960"/>
          </a:xfrm>
        </p:grpSpPr>
        <p:cxnSp>
          <p:nvCxnSpPr>
            <p:cNvPr id="172" name="Straight Arrow Connector 50"/>
            <p:cNvCxnSpPr>
              <a:endCxn id="159" idx="2"/>
            </p:cNvCxnSpPr>
            <p:nvPr/>
          </p:nvCxnSpPr>
          <p:spPr>
            <a:xfrm flipV="1">
              <a:off x="5410080" y="3571560"/>
              <a:ext cx="573840" cy="92448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73" name="Straight Arrow Connector 56"/>
            <p:cNvCxnSpPr>
              <a:endCxn id="155" idx="1"/>
            </p:cNvCxnSpPr>
            <p:nvPr/>
          </p:nvCxnSpPr>
          <p:spPr>
            <a:xfrm>
              <a:off x="6095880" y="3591720"/>
              <a:ext cx="1448640" cy="2340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74" name="Straight Arrow Connector 58"/>
            <p:cNvCxnSpPr>
              <a:stCxn id="156" idx="0"/>
            </p:cNvCxnSpPr>
            <p:nvPr/>
          </p:nvCxnSpPr>
          <p:spPr>
            <a:xfrm flipH="1" flipV="1">
              <a:off x="6134760" y="3723840"/>
              <a:ext cx="1599480" cy="1391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sp>
        <p:nvSpPr>
          <p:cNvPr id="175" name="TextBox 61"/>
          <p:cNvSpPr/>
          <p:nvPr/>
        </p:nvSpPr>
        <p:spPr>
          <a:xfrm>
            <a:off x="4973760" y="1771560"/>
            <a:ext cx="386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actice your </a:t>
            </a:r>
            <a:r>
              <a:rPr b="0" lang="ja-JP" sz="2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ollow-up</a:t>
            </a:r>
            <a:r>
              <a:rPr b="0" lang="ja-JP" sz="2400" spc="-1" strike="noStrike">
                <a:solidFill>
                  <a:srgbClr val="33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skills by building on what others contribute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are Literature Circle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Optimally, students choose their own reading material.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Small temporary groups are formed, based upon book choice. 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Kids use written or drawn notes to guide book discussions.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Groups aim to be open, natural conversations about books (rather than Q&amp;A list to finish)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In newly-forming groups, students may rotate through </a:t>
            </a:r>
            <a:r>
              <a:rPr b="0" lang="en-US" sz="2700" spc="-1" strike="noStrike" u="sng">
                <a:solidFill>
                  <a:srgbClr val="330000"/>
                </a:solidFill>
                <a:uFillTx/>
                <a:latin typeface="Arial"/>
              </a:rPr>
              <a:t>task roles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 to support group work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loring Literature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ircle Roles (see wiki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iscussion Direct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terary Luminar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nnect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haracter Captai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tful Adventur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Vocabulary Enrich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0" name="AutoShape 4">
            <a:hlinkClick r:id="rId7"/>
          </p:cNvPr>
          <p:cNvSpPr/>
          <p:nvPr/>
        </p:nvSpPr>
        <p:spPr>
          <a:xfrm>
            <a:off x="5715000" y="2895480"/>
            <a:ext cx="1600200" cy="1371600"/>
          </a:xfrm>
          <a:custGeom>
            <a:avLst/>
            <a:gdLst/>
            <a:ahLst/>
            <a:rect l="l" t="t" r="r" b="b"/>
            <a:pathLst>
              <a:path w="1600200" h="1371600">
                <a:moveTo>
                  <a:pt x="2" y="523903"/>
                </a:moveTo>
                <a:lnTo>
                  <a:pt x="611225" y="523907"/>
                </a:lnTo>
                <a:lnTo>
                  <a:pt x="800100" y="0"/>
                </a:lnTo>
                <a:lnTo>
                  <a:pt x="988975" y="523907"/>
                </a:lnTo>
                <a:lnTo>
                  <a:pt x="1600198" y="523903"/>
                </a:lnTo>
                <a:lnTo>
                  <a:pt x="1105706" y="847692"/>
                </a:lnTo>
                <a:lnTo>
                  <a:pt x="1294588" y="1371597"/>
                </a:lnTo>
                <a:lnTo>
                  <a:pt x="800100" y="1047802"/>
                </a:lnTo>
                <a:lnTo>
                  <a:pt x="305612" y="1371597"/>
                </a:lnTo>
                <a:lnTo>
                  <a:pt x="494494" y="847692"/>
                </a:lnTo>
                <a:lnTo>
                  <a:pt x="2" y="523903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How Do Literature Circles Work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 teacher serves as a facilitator, not a group member or instructor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valuation is by teacher observation and student self-evaluation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timally, different groups read different books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books are finished, readers share with classmates and new groups form around a different book choice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spirit of playfulness and fun pervades the room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ut this assumes there is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rust and respec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, and that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each member feels safe and valued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Your assignments (see wiki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84" name="Picture 2" descr="Screen Shot 2017-11-20 at 3.50.30 PM.png"/>
          <p:cNvPicPr/>
          <p:nvPr/>
        </p:nvPicPr>
        <p:blipFill>
          <a:blip r:embed="rId1"/>
          <a:stretch/>
        </p:blipFill>
        <p:spPr>
          <a:xfrm>
            <a:off x="228600" y="1828800"/>
            <a:ext cx="86360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genda Nov. 30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:00-11:10 Overview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:10-11:30 Literature Circles (activity sheets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:30-12:00 Discussion Web Activit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2:00-12:10 Share out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2:10-12:15 Exit Slip and Homework Reminder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Remember the Goal of Your Literature Circle Discussion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8" name="Donut 20"/>
          <p:cNvSpPr/>
          <p:nvPr/>
        </p:nvSpPr>
        <p:spPr>
          <a:xfrm>
            <a:off x="4876920" y="2971800"/>
            <a:ext cx="3047760" cy="3124080"/>
          </a:xfrm>
          <a:custGeom>
            <a:avLst/>
            <a:gdLst/>
            <a:ahLst/>
            <a:rect l="l" t="t" r="r" b="b"/>
            <a:pathLst>
              <a:path w="3048000" h="3124200">
                <a:moveTo>
                  <a:pt x="0" y="1562100"/>
                </a:moveTo>
                <a:cubicBezTo>
                  <a:pt x="0" y="699376"/>
                  <a:pt x="682318" y="0"/>
                  <a:pt x="1524000" y="0"/>
                </a:cubicBezTo>
                <a:cubicBezTo>
                  <a:pt x="2365682" y="0"/>
                  <a:pt x="3048000" y="699376"/>
                  <a:pt x="3048000" y="1562100"/>
                </a:cubicBezTo>
                <a:cubicBezTo>
                  <a:pt x="3048000" y="2424824"/>
                  <a:pt x="2365682" y="3124200"/>
                  <a:pt x="1524000" y="3124200"/>
                </a:cubicBezTo>
                <a:cubicBezTo>
                  <a:pt x="682318" y="3124200"/>
                  <a:pt x="0" y="2424824"/>
                  <a:pt x="0" y="1562100"/>
                </a:cubicBezTo>
                <a:close/>
                <a:moveTo>
                  <a:pt x="305013" y="1562100"/>
                </a:moveTo>
                <a:cubicBezTo>
                  <a:pt x="305013" y="2256370"/>
                  <a:pt x="850772" y="2819187"/>
                  <a:pt x="1524000" y="2819187"/>
                </a:cubicBezTo>
                <a:cubicBezTo>
                  <a:pt x="2197228" y="2819187"/>
                  <a:pt x="2742987" y="2256370"/>
                  <a:pt x="2742987" y="1562100"/>
                </a:cubicBezTo>
                <a:cubicBezTo>
                  <a:pt x="2742987" y="867830"/>
                  <a:pt x="2197228" y="305013"/>
                  <a:pt x="1524000" y="305013"/>
                </a:cubicBezTo>
                <a:cubicBezTo>
                  <a:pt x="850772" y="305013"/>
                  <a:pt x="305013" y="867830"/>
                  <a:pt x="305013" y="15621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9" name="TextBox 21"/>
          <p:cNvSpPr/>
          <p:nvPr/>
        </p:nvSpPr>
        <p:spPr>
          <a:xfrm>
            <a:off x="7390800" y="33526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0" name="TextBox 22"/>
          <p:cNvSpPr/>
          <p:nvPr/>
        </p:nvSpPr>
        <p:spPr>
          <a:xfrm>
            <a:off x="7388280" y="5114880"/>
            <a:ext cx="38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1" name="TextBox 23"/>
          <p:cNvSpPr/>
          <p:nvPr/>
        </p:nvSpPr>
        <p:spPr>
          <a:xfrm>
            <a:off x="5942880" y="5572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2" name="TextBox 24"/>
          <p:cNvSpPr/>
          <p:nvPr/>
        </p:nvSpPr>
        <p:spPr>
          <a:xfrm>
            <a:off x="4952520" y="4429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3" name="TextBox 25"/>
          <p:cNvSpPr/>
          <p:nvPr/>
        </p:nvSpPr>
        <p:spPr>
          <a:xfrm>
            <a:off x="5638320" y="304812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94" name="Group 35"/>
          <p:cNvGrpSpPr/>
          <p:nvPr/>
        </p:nvGrpSpPr>
        <p:grpSpPr>
          <a:xfrm>
            <a:off x="5175360" y="3876480"/>
            <a:ext cx="2249640" cy="1926360"/>
            <a:chOff x="5175360" y="3876480"/>
            <a:chExt cx="2249640" cy="1926360"/>
          </a:xfrm>
        </p:grpSpPr>
        <p:cxnSp>
          <p:nvCxnSpPr>
            <p:cNvPr id="195" name="Straight Arrow Connector 26"/>
            <p:cNvCxnSpPr>
              <a:stCxn id="189" idx="2"/>
            </p:cNvCxnSpPr>
            <p:nvPr/>
          </p:nvCxnSpPr>
          <p:spPr>
            <a:xfrm flipH="1">
              <a:off x="6241320" y="3876840"/>
              <a:ext cx="1183320" cy="7725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96" name="Straight Arrow Connector 27"/>
            <p:cNvCxnSpPr/>
            <p:nvPr/>
          </p:nvCxnSpPr>
          <p:spPr>
            <a:xfrm flipH="1">
              <a:off x="6320520" y="4572720"/>
              <a:ext cx="153000" cy="123048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97" name="Straight Arrow Connector 28"/>
            <p:cNvCxnSpPr>
              <a:endCxn id="192" idx="3"/>
            </p:cNvCxnSpPr>
            <p:nvPr/>
          </p:nvCxnSpPr>
          <p:spPr>
            <a:xfrm flipH="1" flipV="1">
              <a:off x="5178240" y="4691520"/>
              <a:ext cx="987840" cy="1013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98" name="Straight Arrow Connector 29"/>
            <p:cNvCxnSpPr>
              <a:endCxn id="189" idx="2"/>
            </p:cNvCxnSpPr>
            <p:nvPr/>
          </p:nvCxnSpPr>
          <p:spPr>
            <a:xfrm flipV="1">
              <a:off x="5175360" y="3876480"/>
              <a:ext cx="2250000" cy="8589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grpSp>
        <p:nvGrpSpPr>
          <p:cNvPr id="199" name="Group 49"/>
          <p:cNvGrpSpPr/>
          <p:nvPr/>
        </p:nvGrpSpPr>
        <p:grpSpPr>
          <a:xfrm>
            <a:off x="5251320" y="3571200"/>
            <a:ext cx="1981800" cy="2000880"/>
            <a:chOff x="5251320" y="3571200"/>
            <a:chExt cx="1981800" cy="2000880"/>
          </a:xfrm>
        </p:grpSpPr>
        <p:cxnSp>
          <p:nvCxnSpPr>
            <p:cNvPr id="200" name="Straight Arrow Connector 36"/>
            <p:cNvCxnSpPr>
              <a:stCxn id="190" idx="1"/>
            </p:cNvCxnSpPr>
            <p:nvPr/>
          </p:nvCxnSpPr>
          <p:spPr>
            <a:xfrm flipH="1" flipV="1">
              <a:off x="6089040" y="4115160"/>
              <a:ext cx="1143720" cy="126180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201" name="Straight Arrow Connector 39"/>
            <p:cNvCxnSpPr>
              <a:endCxn id="193" idx="2"/>
            </p:cNvCxnSpPr>
            <p:nvPr/>
          </p:nvCxnSpPr>
          <p:spPr>
            <a:xfrm flipH="1" flipV="1">
              <a:off x="5671440" y="3571200"/>
              <a:ext cx="417960" cy="5439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202" name="Straight Arrow Connector 43"/>
            <p:cNvCxnSpPr>
              <a:endCxn id="191" idx="0"/>
            </p:cNvCxnSpPr>
            <p:nvPr/>
          </p:nvCxnSpPr>
          <p:spPr>
            <a:xfrm>
              <a:off x="5707440" y="3733920"/>
              <a:ext cx="268920" cy="183852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203" name="Straight Arrow Connector 46"/>
            <p:cNvCxnSpPr>
              <a:endCxn id="190" idx="1"/>
            </p:cNvCxnSpPr>
            <p:nvPr/>
          </p:nvCxnSpPr>
          <p:spPr>
            <a:xfrm>
              <a:off x="5251320" y="4724280"/>
              <a:ext cx="1982160" cy="653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cxnSp>
        <p:nvCxnSpPr>
          <p:cNvPr id="204" name="Straight Arrow Connector 53"/>
          <p:cNvCxnSpPr>
            <a:stCxn id="191" idx="0"/>
            <a:endCxn id="189" idx="1"/>
          </p:cNvCxnSpPr>
          <p:nvPr/>
        </p:nvCxnSpPr>
        <p:spPr>
          <a:xfrm flipV="1">
            <a:off x="6132600" y="3614040"/>
            <a:ext cx="1256400" cy="195804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grpSp>
        <p:nvGrpSpPr>
          <p:cNvPr id="205" name="Group 60"/>
          <p:cNvGrpSpPr/>
          <p:nvPr/>
        </p:nvGrpSpPr>
        <p:grpSpPr>
          <a:xfrm>
            <a:off x="5099040" y="3571560"/>
            <a:ext cx="2323800" cy="1542960"/>
            <a:chOff x="5099040" y="3571560"/>
            <a:chExt cx="2323800" cy="1542960"/>
          </a:xfrm>
        </p:grpSpPr>
        <p:cxnSp>
          <p:nvCxnSpPr>
            <p:cNvPr id="206" name="Straight Arrow Connector 50"/>
            <p:cNvCxnSpPr>
              <a:endCxn id="193" idx="2"/>
            </p:cNvCxnSpPr>
            <p:nvPr/>
          </p:nvCxnSpPr>
          <p:spPr>
            <a:xfrm flipV="1">
              <a:off x="5099040" y="3571560"/>
              <a:ext cx="573840" cy="92448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207" name="Straight Arrow Connector 56"/>
            <p:cNvCxnSpPr>
              <a:endCxn id="189" idx="1"/>
            </p:cNvCxnSpPr>
            <p:nvPr/>
          </p:nvCxnSpPr>
          <p:spPr>
            <a:xfrm>
              <a:off x="5784840" y="3591720"/>
              <a:ext cx="1448640" cy="2340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208" name="Straight Arrow Connector 58"/>
            <p:cNvCxnSpPr>
              <a:stCxn id="190" idx="0"/>
            </p:cNvCxnSpPr>
            <p:nvPr/>
          </p:nvCxnSpPr>
          <p:spPr>
            <a:xfrm flipH="1" flipV="1">
              <a:off x="5823720" y="3723840"/>
              <a:ext cx="1599480" cy="1391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sp>
        <p:nvSpPr>
          <p:cNvPr id="209" name="TextBox 61"/>
          <p:cNvSpPr/>
          <p:nvPr/>
        </p:nvSpPr>
        <p:spPr>
          <a:xfrm>
            <a:off x="533520" y="1981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actice your 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ollow-up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skills by building on what others contribute…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3276720"/>
            <a:ext cx="46483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iscussion Directo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necto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aracter Captai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rtful Adventure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ocabulary Enriche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iscussion Ideas for Pictures of Hollis Woo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397080" y="1981080"/>
            <a:ext cx="8067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reate a discussion question; consider both sides (2 people each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nd then share other sides); come to consensus and write conclusion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213" name="Picture 2" descr="Screen Shot 2017-11-20 at 5.33.02 PM.png"/>
          <p:cNvPicPr/>
          <p:nvPr/>
        </p:nvPicPr>
        <p:blipFill>
          <a:blip r:embed="rId1"/>
          <a:stretch/>
        </p:blipFill>
        <p:spPr>
          <a:xfrm>
            <a:off x="1219320" y="2746440"/>
            <a:ext cx="63244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Wrapping up the HOWS of teaching</a:t>
            </a:r>
            <a:r>
              <a:rPr b="1" lang="is-IS" sz="3200" spc="-1" strike="noStrike">
                <a:solidFill>
                  <a:srgbClr val="320000"/>
                </a:solidFill>
                <a:latin typeface="Arial"/>
              </a:rPr>
              <a:t>…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Where does Explicit Teaching fit in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And what does it look like?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And how do students become more independent? 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Quick-Write Exit Slip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ased on your readings, your participation in a literature circle, and the discussion web activity:  Write 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two key insights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you gained about discussion-based reading instruction that can inform your teaching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member to study for Quiz (next Tuesday) – use Google Docs questions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28600" y="1905120"/>
            <a:ext cx="8686800" cy="44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plicit Teaching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Explici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lear, detailed, and obvious (reading is a process and sometimes it’s hard work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mplici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mplied or hidden (reading is a mystery…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ODEL (what, why, &amp; how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FINE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WHAT) label the strategy and define in kid term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PLAIN: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EXPLAIN WHY) why is it useful and when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EXPLAIN HOW) Think-aloud: How do you do this? Make your inner voice explicit and obvious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CAFFOLDED PRACTICE 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I do, we do, you do, redo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80880" y="594684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, think-aloud, and SCAFFOLD your strategy suppor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1" name="Picture 5" descr="Picture 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089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1066680" y="30492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mote Independence by Gradually releasing Responsibility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32440" y="1455840"/>
            <a:ext cx="205812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WAT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504520" y="2590920"/>
            <a:ext cx="1480680" cy="106956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E DO </a:t>
            </a:r>
            <a:br>
              <a:rPr sz="2400"/>
            </a:b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YOU HELP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4648320" y="2971800"/>
            <a:ext cx="1676160" cy="106956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DO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 HELP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YOU D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629400" y="4724280"/>
            <a:ext cx="1676520" cy="45972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So, the whole process of explicit teaching and gradual release? 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hole Group (Read Aloud/Shared Reading)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experience literary work they cannot yet decode  by participating in higher level text discuss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GUIDED READING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Modeling &gt; Practice with books at their reading level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aired/Independent Reading: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enter Activities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sponse Journals/Discussion Circl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Revisit &amp; think more deeply about text and co-construct new understanding; build skills in fluency and vocabular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Clarify Assignment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llis Woods Guided Reading Plan (due Tues Nov. 28) – Collect hard cop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v. 28: Amy Correia and ELL strateg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iterature Circle Reading &amp; Activity, and 2 Column Journal &amp; Quiz Questions (due 11/30) – see wiki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se Google Docs to Study for Quiz (on 12/1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ormational Text Assignment (due 12/7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f you revised an assignment and haven’t had it returned, see me after class to check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Guided Reading Plan for </a:t>
            </a:r>
            <a:br>
              <a:rPr sz="4000"/>
            </a:b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Pictures of Hollis Wood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09320"/>
            <a:ext cx="822960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story elements as a structure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to help students recall, attend to, and discussion of key points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Setting/Context: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Characters: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Problem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Key steps toward addressing that problem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Resolution: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Theme: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haracteristics of Quality Realistic Fiction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good story that engages readers to care about the outcom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**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haracter developmen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forms an integral part of the stor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volve a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hallenging situa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requiring problem solving or refle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ers left with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optimistic messag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that problems can be overcome and people have control over their lives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Keep in mind as you read and reflect on 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Hollis Woods (useful for guiding the questions you ask and sections you focus on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24:01Z</dcterms:created>
  <dc:creator>Julie Coiro</dc:creator>
  <dc:description/>
  <dc:language>en-US</dc:language>
  <cp:lastModifiedBy>Julie Coiro</cp:lastModifiedBy>
  <cp:lastPrinted>2011-10-31T16:57:53Z</cp:lastPrinted>
  <dcterms:modified xsi:type="dcterms:W3CDTF">2017-11-21T02:44:10Z</dcterms:modified>
  <cp:revision>494</cp:revision>
  <dc:subject/>
  <dc:title>Metacognitive Strategy Instruction to Enhance Reading Comprehension</dc:title>
</cp:coreProperties>
</file>